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552A-D193-42BD-B50E-132E67232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12BD-BD8F-49CF-BDD0-702A2BA30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3D7D-911D-4AE0-ADD4-83CEFECA5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11D1-3A44-42FE-B733-692F25ED7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EF7E3-2B9F-475D-80A0-AB976114D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CA529-421B-4793-A0C0-C3286538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D9026-8C80-448C-986C-B73EF0264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D65AF-868F-4FA0-A5E9-B210603A8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6B606-B22C-4CFF-9E18-6F23DCF2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C287-B688-4191-A816-4E2DB9810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C685-4DAF-4BFC-9B05-C32925025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4C61-73AD-413C-BA6B-D6E357DF1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981AC-EFC6-4207-96DD-21F711CF5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79736-62A2-45D4-8C8D-1A00EED1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5676D-275C-4240-BC15-A4352DB3A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CC499-7BC9-4110-8CB1-47BA457C2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D3C4A-52F5-4ABF-B95C-683629EA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30F92-5174-4A44-A3B6-743F16224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3C6DD-5698-47BF-A23B-E464E724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68632-94FA-4DEE-A3AA-BB1844E1F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92D649-7186-4212-976E-888B767A3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11CE0-7350-436A-BDF6-96DCE587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BB98-C92C-41B2-8AE5-7838C922F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DD5E43-84D2-4C8D-936A-C3B5BEE18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F626F6-A652-46BF-822C-F85BAABF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E3234-3E74-4463-9A26-5833DBF21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DBBAA-E76D-4290-BEF3-1A19C442C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37D0D-0390-4B0A-A39D-8ADBA868F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850CE8-3D44-45A4-A8B2-0A09D8C80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9444F-C0FB-4B77-957E-83B86BAAE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76E3A-2C98-444A-8E69-463A8B12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7349D0-C2E1-40D9-BF77-BABCBE6F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D3C6C-4FD5-4024-9873-CC9C2D54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95CB-3601-4913-ACD4-45FA44E73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BB5AB-E425-4770-873E-EB640137C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F1B75-BF3F-46B4-B7B9-37020C439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44324-36B1-4CF8-AA15-09DF26EE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82D63-42EC-46E3-B5EC-10569520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9B9B9-6EFF-4F77-9F01-DC6F02A0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D1CB8F-647F-4F22-9974-7E68A7689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8A3A3-CD31-4F03-ABE4-25F8FF707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3F32D7-4388-4550-9582-159625F0F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56460D-3370-46D9-986F-30CE7658D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0483FB-D5D0-4781-8F0E-3AAED2EF0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9EDF-F67A-4BFD-9C0C-A176AEEA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B9B2B-0AF8-44BF-A758-5875BB64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A6442-D0FB-4ABB-8716-283D83F3C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A73F1-CC43-442C-8381-E0E207FB3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7D3D7B-D982-41B8-AA3E-85A3F0F6C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212166-C7AD-4234-81A2-A6A2A903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5E82F3-B364-4D64-8672-6A0C5FC41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26E85B-F6EE-4C45-AB45-136ACDBF3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5E553-DD49-4916-8652-E9EB16029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ACE81-458C-4162-A7BC-A374E7B60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496EA5-059B-4CCC-BAFF-3C5E39196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067D-2116-48D2-A775-D45C57059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66085-D199-4CFF-BD89-9DA3D52BD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5FD4-0A87-4B99-868C-278CEED1F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AFAE-43CA-45D8-856B-C2C2BBEED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A4E3-7181-4269-8D98-FFD1135F0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EC35E-AF84-45D9-9636-AC93CFFAC9CF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Rectangle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Rectangle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47" name="Straight Connector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E44B7-B371-4412-A46F-7969EEC2E705}" type="slidenum">
              <a:rPr b="0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A56DC-5187-4A92-A110-2218A5C81777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" name="Rectangle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4e7ed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8DAF6-0C85-4C9F-8FCB-CADFF3E105C2}" type="slidenum">
              <a:rPr b="0" lang="en-US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Rectangle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Rectangle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13f9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BA1C-33AD-4564-AB72-303D477580C6}" type="slidenum">
              <a:rPr b="0" lang="en-US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Title 1" descr=""/>
          <p:cNvPicPr/>
          <p:nvPr/>
        </p:nvPicPr>
        <p:blipFill>
          <a:blip r:embed="rId1"/>
          <a:stretch/>
        </p:blipFill>
        <p:spPr>
          <a:xfrm>
            <a:off x="3365640" y="536400"/>
            <a:ext cx="5381640" cy="31942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3354480" y="3540240"/>
            <a:ext cx="5114880" cy="110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played (game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 jugué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bega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 empecé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shower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 me duché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shav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l se afeitó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y got up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los se levant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s/fam washed yourself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ú te lavas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danc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 bailé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s/fam swam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ú nadas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He looked for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l buscó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pl/fam cooked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Vosotros cocin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We found/encounter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Nosotros encontr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ey practiced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llos practic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u s/form sa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Ud. cantó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Title 1" descr=""/>
          <p:cNvPicPr/>
          <p:nvPr/>
        </p:nvPicPr>
        <p:blipFill>
          <a:blip r:embed="rId1"/>
          <a:stretch/>
        </p:blipFill>
        <p:spPr>
          <a:xfrm>
            <a:off x="212760" y="324000"/>
            <a:ext cx="7486560" cy="14317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ar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 took out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Yo saqué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6T13:23:06Z</dcterms:created>
  <dc:creator>Coffman, Kristie</dc:creator>
  <dc:description/>
  <dc:language>en-US</dc:language>
  <cp:lastModifiedBy>Prine, Stephanie</cp:lastModifiedBy>
  <dcterms:modified xsi:type="dcterms:W3CDTF">2012-11-29T14:34:48Z</dcterms:modified>
  <cp:revision>2</cp:revision>
  <dc:subject/>
  <dc:title>5-3 2nd ‘ar preterite practice</dc:title>
</cp:coreProperties>
</file>